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519-56A4-4C6D-B3CA-498C1F65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818-C4FF-4CAC-8C29-F66D93DF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471-8D73-4072-B8A0-B1F953C4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2AA-DBEF-404A-9DB1-04686DCD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C21-A37E-4C93-B761-06425CD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1A8-3CAF-4122-A945-9C079CD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4CB-E39D-485D-8CC5-4B85719E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B9D-6BB2-4F6E-8EA1-C5EED0BC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1CD-D340-457F-915C-2CBB2670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4D0-F078-461B-9F23-474345F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46D-4960-4003-8E62-9AB0435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B13-EBFF-4208-8DF5-31C605C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C4B3-F802-48DB-A8EC-0E41BA1C5B8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haronyD"/>
                <a:ea typeface="AharonyD"/>
              </a:rPr>
              <a:t></a:t>
            </a:r>
            <a:br>
              <a:rPr sz="40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AharonyD"/>
                <a:ea typeface="AharonyD"/>
              </a:rPr>
              <a:t></a:t>
            </a:r>
            <a:r>
              <a:rPr b="1" lang="en-US" sz="2800" spc="-1" strike="noStrike">
                <a:solidFill>
                  <a:srgbClr val="3333cc"/>
                </a:solidFill>
                <a:latin typeface="AharonyD"/>
                <a:ea typeface="AharonyD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haronyD"/>
                <a:ea typeface="AharonyD"/>
              </a:rPr>
              <a:t></a:t>
            </a:r>
            <a:r>
              <a:rPr b="1" lang="he-IL" sz="2800" spc="-1" strike="noStrike" u="sng">
                <a:solidFill>
                  <a:srgbClr val="990000"/>
                </a:solidFill>
                <a:uFillTx/>
                <a:latin typeface="AharonyD"/>
                <a:cs typeface="AharonyD"/>
              </a:rPr>
              <a:t>חט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519360" cy="52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haronyD"/>
                <a:ea typeface="AharonyD"/>
              </a:rPr>
              <a:t>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7600" y="13636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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97080" y="2384280"/>
            <a:ext cx="9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haronyD"/>
                <a:ea typeface="AharonyD"/>
              </a:rPr>
              <a:t>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7000" y="3657600"/>
            <a:ext cx="7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ff"/>
                </a:solidFill>
                <a:uFillTx/>
                <a:latin typeface="AharonyD"/>
                <a:ea typeface="AharonyD"/>
              </a:rPr>
              <a:t>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3360" y="5172120"/>
            <a:ext cx="242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AharonyD"/>
                <a:ea typeface="AharonyD"/>
              </a:rPr>
              <a:t>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2760840" cy="280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247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00" y="-6480"/>
            <a:ext cx="796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yD"/>
                <a:ea typeface="AharonyD"/>
              </a:rPr>
              <a:t>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4240" y="13651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haronyD"/>
                <a:ea typeface="AharonyD"/>
              </a:rPr>
              <a:t>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47920" y="2762280"/>
            <a:ext cx="111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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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88600" y="525780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ff"/>
                </a:solidFill>
                <a:latin typeface="AharonyD"/>
                <a:ea typeface="AharonyD"/>
              </a:rPr>
              <a:t>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9600" y="18288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DavidD"/>
                <a:ea typeface="DavidD"/>
              </a:rPr>
              <a:t>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75248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23720" y="304812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124080" y="380988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335268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DavidD"/>
                <a:ea typeface="DavidD"/>
              </a:rPr>
              <a:t>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541008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91040" y="50292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DavidD"/>
                <a:ea typeface="DavidD"/>
              </a:rPr>
              <a:t>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1080"/>
            <a:ext cx="3962520" cy="606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†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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‰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</a:t>
            </a:r>
            <a:r>
              <a:rPr b="1" i="1" lang="en-US" sz="2800" spc="-1" strike="noStrike">
                <a:solidFill>
                  <a:srgbClr val="0000ff"/>
                </a:solidFill>
                <a:latin typeface="DavidD"/>
                <a:ea typeface="DavidD"/>
              </a:rPr>
              <a:t></a:t>
            </a:r>
            <a:r>
              <a:rPr b="1" lang="en-US" sz="2800" spc="-1" strike="noStrike">
                <a:solidFill>
                  <a:srgbClr val="0000ff"/>
                </a:solidFill>
                <a:latin typeface="DavidD"/>
                <a:ea typeface="DavidD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†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†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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Šˆ‹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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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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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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‰‹‹…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‹‰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‰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514600"/>
            <a:ext cx="358128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†</a:t>
            </a: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Š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†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ilnaD"/>
                <a:ea typeface="VilnaD"/>
              </a:rPr>
              <a:t>†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</a:t>
            </a:r>
            <a:r>
              <a:rPr b="1" lang="en-US" sz="2800" spc="-1" strike="noStrike">
                <a:solidFill>
                  <a:srgbClr val="008000"/>
                </a:solidFill>
                <a:latin typeface="VilnaD"/>
                <a:ea typeface="VilnaD"/>
              </a:rPr>
              <a:t>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</a:t>
            </a: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Š‹ˆ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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8915400" cy="10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haronyD"/>
                <a:ea typeface="AharonyD"/>
              </a:rPr>
              <a:t>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ilnaD"/>
                <a:ea typeface="VilnaD"/>
              </a:rPr>
              <a:t>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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†††Š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‡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‰ˆ†‹‰†‰‹ŠŠ‹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‹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‰†‹‰†‰‹‰‹†ˆ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‰‡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‰‰†‰‡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‹‹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Šˆ‹‰‹ˆ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‹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‹ˆ‹‰‹‰ˆ‡‰†‡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‹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‹‰Š‰Š‰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‰‰‰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ˆ†‹†ˆ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‹‡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Œ‹†‹Š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‰†‹†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Š‰‰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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‰ŠŠ‹†‹ˆˆŠ…‰‰Š†‹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†‰‹‰‹††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‡‰‹…‹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Š†‰†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ilnaD"/>
                <a:ea typeface="VilnaD"/>
              </a:rPr>
              <a:t>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DavidD"/>
                <a:ea typeface="DavidD"/>
              </a:rPr>
              <a:t>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8915400" cy="32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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†</a:t>
            </a: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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††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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†‰‹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Š‹ˆ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‹†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ˆ‡ˆ‰ˆ†‹‰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‰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4600"/>
            <a:ext cx="9034560" cy="405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‰‡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‰‰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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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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ˆ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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‰‹ˆ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†‡‹‹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ˆ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‹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Š‹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ˆ‹‰‹‰ˆ‡‰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‹‰Š‰Š‰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52880"/>
            <a:ext cx="8862840" cy="207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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†</a:t>
            </a: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‰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‹‰‹†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…‹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Š†‰†</a:t>
            </a:r>
            <a:r>
              <a:rPr b="1" i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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‡‰‹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986040" y="0"/>
            <a:ext cx="112176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DavidD"/>
                <a:ea typeface="DavidD"/>
              </a:rPr>
              <a:t>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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‹‹‹‹†‰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‹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‡…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ŠŠ‰‰‰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‡…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‡‹‰…‹‹‰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‹‹‡‹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ŠŠ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†Š‹‰Š‹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‹‡…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‹ˆŠ…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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ˆ‰†‡…‰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‡…‡…‰…‹‰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ˆ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‡…†‰‰‹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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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‹‹Šˆ‰ŠŠ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‰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ŠŠŠ‹Š‹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‰‹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‡‹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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ŠŠ‹ˆŠˆ†‰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DavidD"/>
                <a:ea typeface="DavidD"/>
              </a:rPr>
              <a:t>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794960" y="609480"/>
            <a:ext cx="127386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‹‹‹‹†‰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ˆ‹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‡…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ŠŠŠ‰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‰‰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‡…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ˆ‡‹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‰…‹‹‰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‹‹‡‹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ŠŠ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‹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914400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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‰‰‹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‡…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‹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Š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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ˆ‰ŠŠ‡…†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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‹Š‹Š‹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‰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ŠŠ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648320"/>
            <a:ext cx="9144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‹›‹‹‰</a:t>
            </a: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ˆ›œˆ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†</a:t>
            </a: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œœœ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53080" y="62485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DavidD"/>
                <a:ea typeface="DavidD"/>
              </a:rPr>
              <a:t>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5400" y="533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DavidD"/>
                <a:ea typeface="DavidD"/>
              </a:rPr>
              <a:t>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22040" y="1219320"/>
            <a:ext cx="34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DavidD"/>
                <a:ea typeface="DavidD"/>
              </a:rPr>
              <a:t>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DavidD"/>
                <a:ea typeface="DavidD"/>
              </a:rPr>
              <a:t>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3000" y="124920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DavidD"/>
                <a:ea typeface="DavidD"/>
              </a:rPr>
              <a:t>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DavidD"/>
                <a:ea typeface="DavidD"/>
              </a:rPr>
              <a:t>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9440" y="76212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DavidD"/>
                <a:ea typeface="DavidD"/>
              </a:rPr>
              <a:t>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5360" y="76212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DavidD"/>
                <a:ea typeface="DavidD"/>
              </a:rPr>
              <a:t>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09680"/>
            <a:ext cx="86104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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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327672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DavidD"/>
                <a:ea typeface="DavidD"/>
              </a:rPr>
              <a:t>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4960" y="4114800"/>
            <a:ext cx="34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DavidD"/>
                <a:ea typeface="DavidD"/>
              </a:rPr>
              <a:t>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DavidD"/>
                <a:ea typeface="DavidD"/>
              </a:rPr>
              <a:t>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14360" y="36576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ff"/>
                </a:solidFill>
                <a:uFillTx/>
                <a:latin typeface="DavidD"/>
                <a:ea typeface="DavidD"/>
              </a:rPr>
              <a:t>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480" y="4191120"/>
            <a:ext cx="26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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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9120" y="3657600"/>
            <a:ext cx="6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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DavidD"/>
                <a:ea typeface="DavidD"/>
              </a:rPr>
              <a:t>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05120"/>
            <a:ext cx="5105520" cy="302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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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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0640" y="5334120"/>
            <a:ext cx="764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avidD"/>
                <a:ea typeface="DavidD"/>
              </a:rPr>
              <a:t>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avidD"/>
                <a:ea typeface="DavidD"/>
              </a:rPr>
              <a:t>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514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5812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4956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15:15:15Z</dcterms:created>
  <dc:creator>damian</dc:creator>
  <dc:description/>
  <dc:language>en-US</dc:language>
  <cp:lastModifiedBy>Zoppo</cp:lastModifiedBy>
  <dcterms:modified xsi:type="dcterms:W3CDTF">2007-04-11T03:04:09Z</dcterms:modified>
  <cp:revision>17</cp:revision>
  <dc:subject/>
  <dc:title>No Slide Title</dc:title>
</cp:coreProperties>
</file>